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6A4A-D407-4942-9CDB-73A93F252B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8F6-BACE-44D0-9AB1-4A9DDEF4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982-E140-4B30-8CA9-AAF0F48A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CED-F643-412C-83BA-3F56F150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ED3-BADD-41C8-BFCC-5125DA1D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D41-B940-412E-8788-55C6EB5D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71B-454D-4F7B-9F76-3B3165B9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4CD-9145-4DCA-B3D0-144573F9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67B-59B6-48CA-9594-F269B614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FA5-7322-46BD-A21B-7F1ECDA4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271-D692-4F7D-8B7B-BFA0213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F8B-2C4A-4441-8BB9-B4DFB7F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238-330E-40E5-BEB6-3C662BEB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D811-3023-4FA4-8559-768DCDB04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, Molecules and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NA00119_"/>
          <p:cNvPicPr/>
          <p:nvPr/>
        </p:nvPicPr>
        <p:blipFill>
          <a:blip r:embed="rId1"/>
          <a:stretch/>
        </p:blipFill>
        <p:spPr>
          <a:xfrm>
            <a:off x="0" y="0"/>
            <a:ext cx="232092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A00121_"/>
          <p:cNvPicPr/>
          <p:nvPr/>
        </p:nvPicPr>
        <p:blipFill>
          <a:blip r:embed="rId2"/>
          <a:stretch/>
        </p:blipFill>
        <p:spPr>
          <a:xfrm>
            <a:off x="5788080" y="4343400"/>
            <a:ext cx="3355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0002_9l"/>
          <p:cNvPicPr/>
          <p:nvPr/>
        </p:nvPicPr>
        <p:blipFill>
          <a:blip r:embed="rId1"/>
          <a:srcRect l="0" t="23250" r="0" b="0"/>
          <a:stretch/>
        </p:blipFill>
        <p:spPr>
          <a:xfrm>
            <a:off x="914400" y="57240"/>
            <a:ext cx="7315200" cy="4209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86080" y="4176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radius ~ 100 pm =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adius ~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 =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722120" y="177840"/>
            <a:ext cx="45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herford’s Mode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1252440" y="5410080"/>
            <a:ext cx="6658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f the atom is the Houston Astrodome 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n the nucleus is a marble on the 50 yard line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wick’s Experiment (19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832040"/>
            <a:ext cx="5257800" cy="16898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- 1 p; He atoms - 2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He/mass H should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mass He/mass H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752480" y="1792440"/>
            <a:ext cx="8557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1828800" y="4572000"/>
            <a:ext cx="5715000" cy="546120"/>
            <a:chOff x="1828800" y="4572000"/>
            <a:chExt cx="5715000" cy="546120"/>
          </a:xfrm>
        </p:grpSpPr>
        <p:sp>
          <p:nvSpPr>
            <p:cNvPr id="102" name="Text Box 6"/>
            <p:cNvSpPr/>
            <p:nvPr/>
          </p:nvSpPr>
          <p:spPr>
            <a:xfrm>
              <a:off x="1828800" y="4572000"/>
              <a:ext cx="15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3529080" y="487692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4456080" y="459756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685800" y="52578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utron (n) is neutral (charge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mass = 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" descr=""/>
          <p:cNvPicPr/>
          <p:nvPr/>
        </p:nvPicPr>
        <p:blipFill>
          <a:blip r:embed="rId2"/>
          <a:stretch/>
        </p:blipFill>
        <p:spPr>
          <a:xfrm>
            <a:off x="7302600" y="4495680"/>
            <a:ext cx="1841400" cy="172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 (Table 2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77880" y="2031840"/>
          <a:ext cx="7432560" cy="38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31840"/>
                    <a:ext cx="74325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295280" y="5867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 p = mass n = 1840 x mass e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320" y="231840"/>
            <a:ext cx="8991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toms of the same element (X) with different numbers of neutr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78880" y="3048120"/>
            <a:ext cx="772560" cy="815040"/>
            <a:chOff x="4178880" y="3048120"/>
            <a:chExt cx="772560" cy="815040"/>
          </a:xfrm>
        </p:grpSpPr>
        <p:sp>
          <p:nvSpPr>
            <p:cNvPr id="115" name="Text Box 4"/>
            <p:cNvSpPr/>
            <p:nvPr/>
          </p:nvSpPr>
          <p:spPr>
            <a:xfrm>
              <a:off x="4439880" y="3117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1788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213080" y="3403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478600" y="4145040"/>
            <a:ext cx="4633920" cy="751680"/>
            <a:chOff x="2478600" y="4145040"/>
            <a:chExt cx="4633920" cy="751680"/>
          </a:xfrm>
        </p:grpSpPr>
        <p:grpSp>
          <p:nvGrpSpPr>
            <p:cNvPr id="119" name="Group 8"/>
            <p:cNvGrpSpPr/>
            <p:nvPr/>
          </p:nvGrpSpPr>
          <p:grpSpPr>
            <a:xfrm>
              <a:off x="2478600" y="4145040"/>
              <a:ext cx="685440" cy="751680"/>
              <a:chOff x="2478600" y="4145040"/>
              <a:chExt cx="685440" cy="751680"/>
            </a:xfrm>
          </p:grpSpPr>
          <p:sp>
            <p:nvSpPr>
              <p:cNvPr id="120" name="Text Box 9"/>
              <p:cNvSpPr/>
              <p:nvPr/>
            </p:nvSpPr>
            <p:spPr>
              <a:xfrm>
                <a:off x="2652480" y="42163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24786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1"/>
              <p:cNvSpPr/>
              <p:nvPr/>
            </p:nvSpPr>
            <p:spPr>
              <a:xfrm>
                <a:off x="24786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3821400" y="4145040"/>
              <a:ext cx="1447200" cy="751680"/>
              <a:chOff x="3821400" y="4145040"/>
              <a:chExt cx="1447200" cy="751680"/>
            </a:xfrm>
          </p:grpSpPr>
          <p:sp>
            <p:nvSpPr>
              <p:cNvPr id="124" name="Text Box 13"/>
              <p:cNvSpPr/>
              <p:nvPr/>
            </p:nvSpPr>
            <p:spPr>
              <a:xfrm>
                <a:off x="3995280" y="4214880"/>
                <a:ext cx="127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4"/>
              <p:cNvSpPr/>
              <p:nvPr/>
            </p:nvSpPr>
            <p:spPr>
              <a:xfrm>
                <a:off x="38214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5"/>
              <p:cNvSpPr/>
              <p:nvPr/>
            </p:nvSpPr>
            <p:spPr>
              <a:xfrm>
                <a:off x="38214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5716800" y="4145040"/>
              <a:ext cx="1395720" cy="751680"/>
              <a:chOff x="5716800" y="4145040"/>
              <a:chExt cx="1395720" cy="751680"/>
            </a:xfrm>
          </p:grpSpPr>
          <p:sp>
            <p:nvSpPr>
              <p:cNvPr id="128" name="Text Box 17"/>
              <p:cNvSpPr/>
              <p:nvPr/>
            </p:nvSpPr>
            <p:spPr>
              <a:xfrm>
                <a:off x="5891040" y="4214880"/>
                <a:ext cx="122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8"/>
              <p:cNvSpPr/>
              <p:nvPr/>
            </p:nvSpPr>
            <p:spPr>
              <a:xfrm>
                <a:off x="57168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9"/>
              <p:cNvSpPr/>
              <p:nvPr/>
            </p:nvSpPr>
            <p:spPr>
              <a:xfrm>
                <a:off x="57168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28"/>
          <p:cNvGrpSpPr/>
          <p:nvPr/>
        </p:nvGrpSpPr>
        <p:grpSpPr>
          <a:xfrm>
            <a:off x="2920320" y="5180040"/>
            <a:ext cx="3152160" cy="751680"/>
            <a:chOff x="2920320" y="5180040"/>
            <a:chExt cx="3152160" cy="751680"/>
          </a:xfrm>
        </p:grpSpPr>
        <p:grpSp>
          <p:nvGrpSpPr>
            <p:cNvPr id="132" name="Group 20"/>
            <p:cNvGrpSpPr/>
            <p:nvPr/>
          </p:nvGrpSpPr>
          <p:grpSpPr>
            <a:xfrm>
              <a:off x="2920320" y="5180040"/>
              <a:ext cx="1116360" cy="751680"/>
              <a:chOff x="2920320" y="5180040"/>
              <a:chExt cx="1116360" cy="751680"/>
            </a:xfrm>
          </p:grpSpPr>
          <p:sp>
            <p:nvSpPr>
              <p:cNvPr id="133" name="Text Box 21"/>
              <p:cNvSpPr/>
              <p:nvPr/>
            </p:nvSpPr>
            <p:spPr>
              <a:xfrm>
                <a:off x="35251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2"/>
              <p:cNvSpPr/>
              <p:nvPr/>
            </p:nvSpPr>
            <p:spPr>
              <a:xfrm>
                <a:off x="292032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308484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4"/>
            <p:cNvGrpSpPr/>
            <p:nvPr/>
          </p:nvGrpSpPr>
          <p:grpSpPr>
            <a:xfrm>
              <a:off x="4955400" y="5180040"/>
              <a:ext cx="1117080" cy="751680"/>
              <a:chOff x="4955400" y="5180040"/>
              <a:chExt cx="1117080" cy="751680"/>
            </a:xfrm>
          </p:grpSpPr>
          <p:sp>
            <p:nvSpPr>
              <p:cNvPr id="137" name="Text Box 25"/>
              <p:cNvSpPr/>
              <p:nvPr/>
            </p:nvSpPr>
            <p:spPr>
              <a:xfrm>
                <a:off x="55609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495540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512028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1983960" y="3030480"/>
            <a:ext cx="2223000" cy="398880"/>
            <a:chOff x="1983960" y="3030480"/>
            <a:chExt cx="2223000" cy="398880"/>
          </a:xfrm>
        </p:grpSpPr>
        <p:sp>
          <p:nvSpPr>
            <p:cNvPr id="141" name="Text Box 29"/>
            <p:cNvSpPr/>
            <p:nvPr/>
          </p:nvSpPr>
          <p:spPr>
            <a:xfrm>
              <a:off x="1983960" y="303048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3673440" y="324468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1829520" y="3425760"/>
            <a:ext cx="2377440" cy="398880"/>
            <a:chOff x="1829520" y="3425760"/>
            <a:chExt cx="2377440" cy="398880"/>
          </a:xfrm>
        </p:grpSpPr>
        <p:sp>
          <p:nvSpPr>
            <p:cNvPr id="144" name="Text Box 30"/>
            <p:cNvSpPr/>
            <p:nvPr/>
          </p:nvSpPr>
          <p:spPr>
            <a:xfrm>
              <a:off x="1829520" y="342576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3673440" y="364320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909680" y="3255840"/>
            <a:ext cx="2536560" cy="398880"/>
            <a:chOff x="4909680" y="3255840"/>
            <a:chExt cx="2536560" cy="398880"/>
          </a:xfrm>
        </p:grpSpPr>
        <p:sp>
          <p:nvSpPr>
            <p:cNvPr id="147" name="Text Box 35"/>
            <p:cNvSpPr/>
            <p:nvPr/>
          </p:nvSpPr>
          <p:spPr>
            <a:xfrm>
              <a:off x="5413680" y="32558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 flipH="1">
              <a:off x="4909680" y="345924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02_0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3808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880" y="1928880"/>
            <a:ext cx="8416440" cy="713520"/>
            <a:chOff x="380880" y="1928880"/>
            <a:chExt cx="8416440" cy="713520"/>
          </a:xfrm>
        </p:grpSpPr>
        <p:sp>
          <p:nvSpPr>
            <p:cNvPr id="153" name="Text Box 3"/>
            <p:cNvSpPr/>
            <p:nvPr/>
          </p:nvSpPr>
          <p:spPr>
            <a:xfrm>
              <a:off x="380880" y="20257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7621200" y="1928880"/>
              <a:ext cx="965160" cy="713520"/>
              <a:chOff x="7621200" y="1928880"/>
              <a:chExt cx="965160" cy="713520"/>
            </a:xfrm>
          </p:grpSpPr>
          <p:sp>
            <p:nvSpPr>
              <p:cNvPr id="155" name="Text Box 5"/>
              <p:cNvSpPr/>
              <p:nvPr/>
            </p:nvSpPr>
            <p:spPr>
              <a:xfrm>
                <a:off x="8100720" y="19605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6"/>
              <p:cNvSpPr/>
              <p:nvPr/>
            </p:nvSpPr>
            <p:spPr>
              <a:xfrm>
                <a:off x="7621200" y="1928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786440" y="218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8"/>
            <p:cNvSpPr/>
            <p:nvPr/>
          </p:nvSpPr>
          <p:spPr>
            <a:xfrm>
              <a:off x="8459640" y="1995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20840" y="4038480"/>
            <a:ext cx="8416440" cy="713520"/>
            <a:chOff x="420840" y="4038480"/>
            <a:chExt cx="8416440" cy="713520"/>
          </a:xfrm>
        </p:grpSpPr>
        <p:sp>
          <p:nvSpPr>
            <p:cNvPr id="160" name="Text Box 10"/>
            <p:cNvSpPr/>
            <p:nvPr/>
          </p:nvSpPr>
          <p:spPr>
            <a:xfrm>
              <a:off x="420840" y="41353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1"/>
            <p:cNvGrpSpPr/>
            <p:nvPr/>
          </p:nvGrpSpPr>
          <p:grpSpPr>
            <a:xfrm>
              <a:off x="7661160" y="4038480"/>
              <a:ext cx="965160" cy="713520"/>
              <a:chOff x="7661160" y="4038480"/>
              <a:chExt cx="965160" cy="713520"/>
            </a:xfrm>
          </p:grpSpPr>
          <p:sp>
            <p:nvSpPr>
              <p:cNvPr id="162" name="Text Box 12"/>
              <p:cNvSpPr/>
              <p:nvPr/>
            </p:nvSpPr>
            <p:spPr>
              <a:xfrm>
                <a:off x="8140680" y="40701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3"/>
              <p:cNvSpPr/>
              <p:nvPr/>
            </p:nvSpPr>
            <p:spPr>
              <a:xfrm>
                <a:off x="7661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4"/>
              <p:cNvSpPr/>
              <p:nvPr/>
            </p:nvSpPr>
            <p:spPr>
              <a:xfrm>
                <a:off x="7826400" y="429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5"/>
            <p:cNvSpPr/>
            <p:nvPr/>
          </p:nvSpPr>
          <p:spPr>
            <a:xfrm>
              <a:off x="8499600" y="4105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6"/>
          <p:cNvSpPr/>
          <p:nvPr/>
        </p:nvSpPr>
        <p:spPr>
          <a:xfrm>
            <a:off x="1212840" y="29084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8 (14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216080" y="49658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5 (11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18400" y="42372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soto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0002_10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4"/>
          <p:cNvGrpSpPr/>
          <p:nvPr/>
        </p:nvGrpSpPr>
        <p:grpSpPr>
          <a:xfrm>
            <a:off x="1319040" y="2870280"/>
            <a:ext cx="2448000" cy="402840"/>
            <a:chOff x="1319040" y="2870280"/>
            <a:chExt cx="2448000" cy="402840"/>
          </a:xfrm>
        </p:grpSpPr>
        <p:sp>
          <p:nvSpPr>
            <p:cNvPr id="173" name="Text Box 4"/>
            <p:cNvSpPr/>
            <p:nvPr/>
          </p:nvSpPr>
          <p:spPr>
            <a:xfrm>
              <a:off x="2014560" y="2870280"/>
              <a:ext cx="971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2928960" y="307332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1319040" y="307332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628320" y="2219400"/>
            <a:ext cx="402840" cy="2419200"/>
            <a:chOff x="6628320" y="2219400"/>
            <a:chExt cx="402840" cy="2419200"/>
          </a:xfrm>
        </p:grpSpPr>
        <p:sp>
          <p:nvSpPr>
            <p:cNvPr id="177" name="Text Box 16"/>
            <p:cNvSpPr/>
            <p:nvPr/>
          </p:nvSpPr>
          <p:spPr>
            <a:xfrm rot="5400000">
              <a:off x="6359760" y="3151080"/>
              <a:ext cx="9396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6831360" y="38005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6831360" y="221940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4"/>
          <p:cNvGrpSpPr/>
          <p:nvPr/>
        </p:nvGrpSpPr>
        <p:grpSpPr>
          <a:xfrm>
            <a:off x="95760" y="1528920"/>
            <a:ext cx="402840" cy="3171240"/>
            <a:chOff x="95760" y="1528920"/>
            <a:chExt cx="402840" cy="3171240"/>
          </a:xfrm>
        </p:grpSpPr>
        <p:sp>
          <p:nvSpPr>
            <p:cNvPr id="181" name="Text Box 21"/>
            <p:cNvSpPr/>
            <p:nvPr/>
          </p:nvSpPr>
          <p:spPr>
            <a:xfrm rot="5400000">
              <a:off x="-526680" y="2829960"/>
              <a:ext cx="16480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02040" y="3862440"/>
              <a:ext cx="0" cy="837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302040" y="1528920"/>
              <a:ext cx="0" cy="68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8669520" y="1620720"/>
            <a:ext cx="402840" cy="2928960"/>
            <a:chOff x="8669520" y="1620720"/>
            <a:chExt cx="402840" cy="2928960"/>
          </a:xfrm>
        </p:grpSpPr>
        <p:sp>
          <p:nvSpPr>
            <p:cNvPr id="185" name="Text Box 26"/>
            <p:cNvSpPr/>
            <p:nvPr/>
          </p:nvSpPr>
          <p:spPr>
            <a:xfrm rot="5400000">
              <a:off x="8105400" y="2863440"/>
              <a:ext cx="153072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8874000" y="371124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8874000" y="16207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8160120" y="2004840"/>
            <a:ext cx="402840" cy="2671920"/>
            <a:chOff x="8160120" y="2004840"/>
            <a:chExt cx="402840" cy="2671920"/>
          </a:xfrm>
        </p:grpSpPr>
        <p:sp>
          <p:nvSpPr>
            <p:cNvPr id="189" name="Text Box 31"/>
            <p:cNvSpPr/>
            <p:nvPr/>
          </p:nvSpPr>
          <p:spPr>
            <a:xfrm rot="5400000">
              <a:off x="7749360" y="3094920"/>
              <a:ext cx="1224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>
              <a:off x="8366040" y="383868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366040" y="2004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624240" y="760320"/>
            <a:ext cx="402840" cy="3978360"/>
            <a:chOff x="624240" y="760320"/>
            <a:chExt cx="402840" cy="3978360"/>
          </a:xfrm>
        </p:grpSpPr>
        <p:sp>
          <p:nvSpPr>
            <p:cNvPr id="193" name="Text Box 36"/>
            <p:cNvSpPr/>
            <p:nvPr/>
          </p:nvSpPr>
          <p:spPr>
            <a:xfrm rot="5400000">
              <a:off x="-405360" y="2467800"/>
              <a:ext cx="24620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2872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82872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1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ggregate of two or more atoms in a definite arrangement held together by chemical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512720" y="1523880"/>
            <a:ext cx="6116760" cy="1796040"/>
            <a:chOff x="1512720" y="1523880"/>
            <a:chExt cx="6116760" cy="1796040"/>
          </a:xfrm>
        </p:grpSpPr>
        <p:pic>
          <p:nvPicPr>
            <p:cNvPr id="199" name="Picture 3" descr="f002_12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512720" y="152388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761480" y="28098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170880" y="280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96260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654876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84320" y="4267080"/>
            <a:ext cx="337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6320" y="51055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242160" y="570060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8532360" y="6400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8960" y="2286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, or group of atoms, that has a net positive or negativ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1120" y="1293840"/>
            <a:ext cx="82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07440" y="4114800"/>
            <a:ext cx="82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n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1104840" y="2666880"/>
            <a:ext cx="3114360" cy="1295280"/>
            <a:chOff x="1104840" y="2666880"/>
            <a:chExt cx="3114360" cy="1295280"/>
          </a:xfrm>
        </p:grpSpPr>
        <p:grpSp>
          <p:nvGrpSpPr>
            <p:cNvPr id="213" name="Group 10"/>
            <p:cNvGrpSpPr/>
            <p:nvPr/>
          </p:nvGrpSpPr>
          <p:grpSpPr>
            <a:xfrm>
              <a:off x="1104840" y="2666880"/>
              <a:ext cx="1295280" cy="1295280"/>
              <a:chOff x="1104840" y="2666880"/>
              <a:chExt cx="1295280" cy="1295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1104840" y="266688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1411560" y="30542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20"/>
            <p:cNvSpPr/>
            <p:nvPr/>
          </p:nvSpPr>
          <p:spPr>
            <a:xfrm>
              <a:off x="2649960" y="29638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5638680" y="2819520"/>
            <a:ext cx="2896920" cy="1143000"/>
            <a:chOff x="5638680" y="2819520"/>
            <a:chExt cx="2896920" cy="1143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5638680" y="2819520"/>
              <a:ext cx="1143000" cy="1143000"/>
              <a:chOff x="5638680" y="2819520"/>
              <a:chExt cx="1143000" cy="1143000"/>
            </a:xfrm>
          </p:grpSpPr>
          <p:sp>
            <p:nvSpPr>
              <p:cNvPr id="219" name="Oval 8"/>
              <p:cNvSpPr/>
              <p:nvPr/>
            </p:nvSpPr>
            <p:spPr>
              <a:xfrm>
                <a:off x="5638680" y="2819520"/>
                <a:ext cx="114300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5832360" y="3132360"/>
                <a:ext cx="75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6966360" y="30322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9"/>
          <p:cNvGrpSpPr/>
          <p:nvPr/>
        </p:nvGrpSpPr>
        <p:grpSpPr>
          <a:xfrm>
            <a:off x="1181160" y="5486400"/>
            <a:ext cx="3038040" cy="1143000"/>
            <a:chOff x="1181160" y="5486400"/>
            <a:chExt cx="3038040" cy="1143000"/>
          </a:xfrm>
        </p:grpSpPr>
        <p:grpSp>
          <p:nvGrpSpPr>
            <p:cNvPr id="223" name="Group 23"/>
            <p:cNvGrpSpPr/>
            <p:nvPr/>
          </p:nvGrpSpPr>
          <p:grpSpPr>
            <a:xfrm>
              <a:off x="1181160" y="5486400"/>
              <a:ext cx="1143000" cy="1143000"/>
              <a:chOff x="1181160" y="5486400"/>
              <a:chExt cx="1143000" cy="1143000"/>
            </a:xfrm>
          </p:grpSpPr>
          <p:sp>
            <p:nvSpPr>
              <p:cNvPr id="224" name="Oval 14"/>
              <p:cNvSpPr/>
              <p:nvPr/>
            </p:nvSpPr>
            <p:spPr>
              <a:xfrm>
                <a:off x="1181160" y="548640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494720" y="579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2"/>
            <p:cNvSpPr/>
            <p:nvPr/>
          </p:nvSpPr>
          <p:spPr>
            <a:xfrm>
              <a:off x="2649960" y="57070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5486400" y="5334120"/>
            <a:ext cx="3049200" cy="1447560"/>
            <a:chOff x="5486400" y="5334120"/>
            <a:chExt cx="3049200" cy="1447560"/>
          </a:xfrm>
        </p:grpSpPr>
        <p:grpSp>
          <p:nvGrpSpPr>
            <p:cNvPr id="228" name="Group 24"/>
            <p:cNvGrpSpPr/>
            <p:nvPr/>
          </p:nvGrpSpPr>
          <p:grpSpPr>
            <a:xfrm>
              <a:off x="5486400" y="5334120"/>
              <a:ext cx="1447920" cy="1447560"/>
              <a:chOff x="5486400" y="5334120"/>
              <a:chExt cx="1447920" cy="144756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5486400" y="533412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5916960" y="5873760"/>
                <a:ext cx="58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6"/>
            <p:cNvSpPr/>
            <p:nvPr/>
          </p:nvSpPr>
          <p:spPr>
            <a:xfrm>
              <a:off x="6966360" y="569916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18960" y="9144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23280" y="3697200"/>
            <a:ext cx="77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438640" y="1461960"/>
            <a:ext cx="42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867400" y="4357800"/>
            <a:ext cx="341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BD04924_"/>
          <p:cNvPicPr/>
          <p:nvPr/>
        </p:nvPicPr>
        <p:blipFill>
          <a:blip r:embed="rId1"/>
          <a:stretch/>
        </p:blipFill>
        <p:spPr>
          <a:xfrm>
            <a:off x="7240680" y="98280"/>
            <a:ext cx="1903320" cy="25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j0072955"/>
          <p:cNvPicPr/>
          <p:nvPr/>
        </p:nvPicPr>
        <p:blipFill>
          <a:blip r:embed="rId2"/>
          <a:stretch/>
        </p:blipFill>
        <p:spPr>
          <a:xfrm>
            <a:off x="0" y="5168880"/>
            <a:ext cx="169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ton’s Atomic Theory (180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extremely small particle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l atoms of a given element are identical.  The atoms of one element are different from the atoms of all other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336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atoms of more than one element. The relative number of atoms of each element in a given compound is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876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nly involve the rearrangement of atoms. Atoms are not created or destroyed in chemical rea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1923480" y="290844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918800" y="496584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50400" y="42372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994320" y="1905120"/>
            <a:ext cx="7156440" cy="713520"/>
            <a:chOff x="994320" y="1905120"/>
            <a:chExt cx="7156440" cy="713520"/>
          </a:xfrm>
        </p:grpSpPr>
        <p:sp>
          <p:nvSpPr>
            <p:cNvPr id="246" name="Text Box 3"/>
            <p:cNvSpPr/>
            <p:nvPr/>
          </p:nvSpPr>
          <p:spPr>
            <a:xfrm>
              <a:off x="994320" y="2001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7016760" y="1936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66576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673680" y="2158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7636320" y="1981080"/>
              <a:ext cx="5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7467480" y="190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978480" y="4038480"/>
            <a:ext cx="7209720" cy="713520"/>
            <a:chOff x="978480" y="4038480"/>
            <a:chExt cx="7209720" cy="713520"/>
          </a:xfrm>
        </p:grpSpPr>
        <p:sp>
          <p:nvSpPr>
            <p:cNvPr id="253" name="Text Box 26"/>
            <p:cNvSpPr/>
            <p:nvPr/>
          </p:nvSpPr>
          <p:spPr>
            <a:xfrm>
              <a:off x="978480" y="4125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7"/>
            <p:cNvGrpSpPr/>
            <p:nvPr/>
          </p:nvGrpSpPr>
          <p:grpSpPr>
            <a:xfrm>
              <a:off x="6707160" y="4038480"/>
              <a:ext cx="1190880" cy="713520"/>
              <a:chOff x="6707160" y="4038480"/>
              <a:chExt cx="1190880" cy="713520"/>
            </a:xfrm>
          </p:grpSpPr>
          <p:sp>
            <p:nvSpPr>
              <p:cNvPr id="255" name="Text Box 28"/>
              <p:cNvSpPr/>
              <p:nvPr/>
            </p:nvSpPr>
            <p:spPr>
              <a:xfrm>
                <a:off x="7072560" y="41176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9"/>
              <p:cNvSpPr/>
              <p:nvPr/>
            </p:nvSpPr>
            <p:spPr>
              <a:xfrm>
                <a:off x="6707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0"/>
              <p:cNvSpPr/>
              <p:nvPr/>
            </p:nvSpPr>
            <p:spPr>
              <a:xfrm>
                <a:off x="6719760" y="4292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1"/>
              <p:cNvSpPr/>
              <p:nvPr/>
            </p:nvSpPr>
            <p:spPr>
              <a:xfrm>
                <a:off x="7462800" y="4051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32"/>
            <p:cNvSpPr/>
            <p:nvPr/>
          </p:nvSpPr>
          <p:spPr>
            <a:xfrm>
              <a:off x="7850520" y="4092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7" descr="f002_1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002_12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00040" y="3668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exact number of atoms of each element in the smallest uni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02560" y="20574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simp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number ratio of the atoms in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02320" y="38559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2059920" y="3276720"/>
            <a:ext cx="4826520" cy="1160640"/>
            <a:chOff x="2059920" y="3276720"/>
            <a:chExt cx="4826520" cy="1160640"/>
          </a:xfrm>
        </p:grpSpPr>
        <p:sp>
          <p:nvSpPr>
            <p:cNvPr id="268" name="Text Box 6"/>
            <p:cNvSpPr/>
            <p:nvPr/>
          </p:nvSpPr>
          <p:spPr>
            <a:xfrm>
              <a:off x="2576520" y="385776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2059920" y="3276720"/>
              <a:ext cx="18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olecu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4368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empi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2276280" y="4483080"/>
            <a:ext cx="142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474160" y="4481640"/>
            <a:ext cx="10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704680" y="521640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786640" y="521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28280" y="580392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610600" y="580392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002_13l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3276720"/>
            <a:ext cx="8128080" cy="307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30492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a cation and an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is always the same as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charges on the cation and anion in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unit must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444400" y="268128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888560" y="18252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070880" y="160020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2664360" y="1143000"/>
            <a:ext cx="3625920" cy="533520"/>
            <a:chOff x="2664360" y="1143000"/>
            <a:chExt cx="3625920" cy="533520"/>
          </a:xfrm>
        </p:grpSpPr>
        <p:grpSp>
          <p:nvGrpSpPr>
            <p:cNvPr id="286" name="Group 9"/>
            <p:cNvGrpSpPr/>
            <p:nvPr/>
          </p:nvGrpSpPr>
          <p:grpSpPr>
            <a:xfrm>
              <a:off x="2664360" y="1143000"/>
              <a:ext cx="1526760" cy="533520"/>
              <a:chOff x="2664360" y="1143000"/>
              <a:chExt cx="1526760" cy="533520"/>
            </a:xfrm>
          </p:grpSpPr>
          <p:sp>
            <p:nvSpPr>
              <p:cNvPr id="287" name="Text Box 4"/>
              <p:cNvSpPr/>
              <p:nvPr/>
            </p:nvSpPr>
            <p:spPr>
              <a:xfrm>
                <a:off x="2664360" y="11430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+3 = +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4038480" y="14479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4876560" y="1143000"/>
              <a:ext cx="1413720" cy="533520"/>
              <a:chOff x="4876560" y="1143000"/>
              <a:chExt cx="1413720" cy="5335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955760" y="11430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3 x -2 = -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 flipH="1">
                <a:off x="4876560" y="14479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1"/>
          <p:cNvSpPr/>
          <p:nvPr/>
        </p:nvSpPr>
        <p:spPr>
          <a:xfrm>
            <a:off x="3223080" y="19810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23880" y="198108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017960" y="326700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2664360" y="2809800"/>
            <a:ext cx="3625920" cy="533520"/>
            <a:chOff x="2664360" y="2809800"/>
            <a:chExt cx="3625920" cy="533520"/>
          </a:xfrm>
        </p:grpSpPr>
        <p:grpSp>
          <p:nvGrpSpPr>
            <p:cNvPr id="296" name="Group 14"/>
            <p:cNvGrpSpPr/>
            <p:nvPr/>
          </p:nvGrpSpPr>
          <p:grpSpPr>
            <a:xfrm>
              <a:off x="2664360" y="2809800"/>
              <a:ext cx="1526760" cy="533520"/>
              <a:chOff x="2664360" y="2809800"/>
              <a:chExt cx="1526760" cy="533520"/>
            </a:xfrm>
          </p:grpSpPr>
          <p:sp>
            <p:nvSpPr>
              <p:cNvPr id="297" name="Text Box 15"/>
              <p:cNvSpPr/>
              <p:nvPr/>
            </p:nvSpPr>
            <p:spPr>
              <a:xfrm>
                <a:off x="2664360" y="28098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6"/>
              <p:cNvSpPr/>
              <p:nvPr/>
            </p:nvSpPr>
            <p:spPr>
              <a:xfrm>
                <a:off x="4038480" y="31147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7"/>
            <p:cNvGrpSpPr/>
            <p:nvPr/>
          </p:nvGrpSpPr>
          <p:grpSpPr>
            <a:xfrm>
              <a:off x="4876560" y="2809800"/>
              <a:ext cx="1413720" cy="533520"/>
              <a:chOff x="4876560" y="2809800"/>
              <a:chExt cx="1413720" cy="533520"/>
            </a:xfrm>
          </p:grpSpPr>
          <p:sp>
            <p:nvSpPr>
              <p:cNvPr id="300" name="Text Box 18"/>
              <p:cNvSpPr/>
              <p:nvPr/>
            </p:nvSpPr>
            <p:spPr>
              <a:xfrm>
                <a:off x="4955760" y="28098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-1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 flipH="1">
                <a:off x="4876560" y="31147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20"/>
          <p:cNvSpPr/>
          <p:nvPr/>
        </p:nvSpPr>
        <p:spPr>
          <a:xfrm>
            <a:off x="3153600" y="364824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5140440" y="364824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874680" y="5257800"/>
            <a:ext cx="13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2666160" y="4800600"/>
            <a:ext cx="3625560" cy="533520"/>
            <a:chOff x="2666160" y="4800600"/>
            <a:chExt cx="3625560" cy="533520"/>
          </a:xfrm>
        </p:grpSpPr>
        <p:grpSp>
          <p:nvGrpSpPr>
            <p:cNvPr id="306" name="Group 23"/>
            <p:cNvGrpSpPr/>
            <p:nvPr/>
          </p:nvGrpSpPr>
          <p:grpSpPr>
            <a:xfrm>
              <a:off x="2666160" y="4800600"/>
              <a:ext cx="1526040" cy="533520"/>
              <a:chOff x="2666160" y="4800600"/>
              <a:chExt cx="1526040" cy="533520"/>
            </a:xfrm>
          </p:grpSpPr>
          <p:sp>
            <p:nvSpPr>
              <p:cNvPr id="307" name="Text Box 24"/>
              <p:cNvSpPr/>
              <p:nvPr/>
            </p:nvSpPr>
            <p:spPr>
              <a:xfrm>
                <a:off x="2666160" y="48006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5"/>
              <p:cNvSpPr/>
              <p:nvPr/>
            </p:nvSpPr>
            <p:spPr>
              <a:xfrm>
                <a:off x="403992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26"/>
            <p:cNvGrpSpPr/>
            <p:nvPr/>
          </p:nvGrpSpPr>
          <p:grpSpPr>
            <a:xfrm>
              <a:off x="4878000" y="4800600"/>
              <a:ext cx="1413720" cy="533520"/>
              <a:chOff x="4878000" y="4800600"/>
              <a:chExt cx="1413720" cy="533520"/>
            </a:xfrm>
          </p:grpSpPr>
          <p:sp>
            <p:nvSpPr>
              <p:cNvPr id="310" name="Text Box 27"/>
              <p:cNvSpPr/>
              <p:nvPr/>
            </p:nvSpPr>
            <p:spPr>
              <a:xfrm>
                <a:off x="4957200" y="48006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-2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487800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29"/>
          <p:cNvSpPr/>
          <p:nvPr/>
        </p:nvSpPr>
        <p:spPr>
          <a:xfrm>
            <a:off x="3211560" y="56386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209200" y="5638680"/>
            <a:ext cx="10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atomic Ions (Table 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92280" y="1676520"/>
          <a:ext cx="76341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76341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metal + non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 (nonmetal), add “ide” to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98600" y="3092400"/>
            <a:ext cx="106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956120" y="30909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98240" y="3701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955040" y="37004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299680" y="4311720"/>
            <a:ext cx="155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956480" y="430992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298600" y="5035680"/>
            <a:ext cx="10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954680" y="5033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charge on metal with Roman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94200" y="248112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758600" y="248292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2 so Fe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734800" y="24271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)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94200" y="331956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758600" y="33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3 so Fe is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34080" y="33512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I) 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403920" y="411336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768680" y="411480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6 so Cr is +3 (6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734800" y="411480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s or nonmetals + 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mpound can be formed from the same elements, use prefixes to indicate number of each kind of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element ends i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0002_2l"/>
          <p:cNvPicPr/>
          <p:nvPr/>
        </p:nvPicPr>
        <p:blipFill>
          <a:blip r:embed="rId1"/>
          <a:stretch/>
        </p:blipFill>
        <p:spPr>
          <a:xfrm>
            <a:off x="501480" y="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4920" y="5181480"/>
            <a:ext cx="4114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88280" y="3927600"/>
            <a:ext cx="3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243160" y="5486400"/>
            <a:ext cx="46483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Multiple Proportion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992520" y="1293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669760" y="129384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03680" y="2093760"/>
            <a:ext cx="7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669400" y="20937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02960" y="2855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668680" y="28558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14120" y="365616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669760" y="365616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003320" y="4494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669760" y="449424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03320" y="5256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670480" y="5256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552760" y="331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5718600" y="4114800"/>
            <a:ext cx="3041280" cy="1066680"/>
            <a:chOff x="5718600" y="4114800"/>
            <a:chExt cx="3041280" cy="1066680"/>
          </a:xfrm>
        </p:grpSpPr>
        <p:sp>
          <p:nvSpPr>
            <p:cNvPr id="357" name="Text Box 14"/>
            <p:cNvSpPr/>
            <p:nvPr/>
          </p:nvSpPr>
          <p:spPr>
            <a:xfrm>
              <a:off x="5718600" y="44578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XI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8" descr="SY00732_"/>
            <p:cNvPicPr/>
            <p:nvPr/>
          </p:nvPicPr>
          <p:blipFill>
            <a:blip r:embed="rId1"/>
            <a:stretch/>
          </p:blipFill>
          <p:spPr>
            <a:xfrm>
              <a:off x="7238880" y="4114800"/>
              <a:ext cx="152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1"/>
          <p:cNvGrpSpPr/>
          <p:nvPr/>
        </p:nvGrpSpPr>
        <p:grpSpPr>
          <a:xfrm>
            <a:off x="6518880" y="5256360"/>
            <a:ext cx="2286720" cy="1404720"/>
            <a:chOff x="6518880" y="5256360"/>
            <a:chExt cx="2286720" cy="1404720"/>
          </a:xfrm>
        </p:grpSpPr>
        <p:sp>
          <p:nvSpPr>
            <p:cNvPr id="360" name="Text Box 15"/>
            <p:cNvSpPr/>
            <p:nvPr/>
          </p:nvSpPr>
          <p:spPr>
            <a:xfrm>
              <a:off x="6518880" y="52563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ughin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0" descr="j0139029"/>
            <p:cNvPicPr/>
            <p:nvPr/>
          </p:nvPicPr>
          <p:blipFill>
            <a:blip r:embed="rId2"/>
            <a:stretch/>
          </p:blipFill>
          <p:spPr>
            <a:xfrm>
              <a:off x="7086600" y="5715000"/>
              <a:ext cx="98748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04560" y="304920"/>
            <a:ext cx="81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01280" y="1371600"/>
            <a:ext cx="77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ubstance, 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4920" y="3200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x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cid that contains hydrogen, oxygen, and an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2592360" y="4451400"/>
            <a:ext cx="3973680" cy="581040"/>
            <a:chOff x="2592360" y="4451400"/>
            <a:chExt cx="3973680" cy="581040"/>
          </a:xfrm>
        </p:grpSpPr>
        <p:sp>
          <p:nvSpPr>
            <p:cNvPr id="366" name="Text Box 5"/>
            <p:cNvSpPr/>
            <p:nvPr/>
          </p:nvSpPr>
          <p:spPr>
            <a:xfrm>
              <a:off x="2592360" y="44528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"/>
            <p:cNvSpPr/>
            <p:nvPr/>
          </p:nvSpPr>
          <p:spPr>
            <a:xfrm>
              <a:off x="4879440" y="445140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it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2615760" y="5133960"/>
            <a:ext cx="4545360" cy="581040"/>
            <a:chOff x="2615760" y="5133960"/>
            <a:chExt cx="4545360" cy="581040"/>
          </a:xfrm>
        </p:grpSpPr>
        <p:sp>
          <p:nvSpPr>
            <p:cNvPr id="369" name="Text Box 7"/>
            <p:cNvSpPr/>
            <p:nvPr/>
          </p:nvSpPr>
          <p:spPr>
            <a:xfrm>
              <a:off x="2615760" y="5135400"/>
              <a:ext cx="119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880160" y="5133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b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2615400" y="5818320"/>
            <a:ext cx="4326840" cy="579600"/>
            <a:chOff x="2615400" y="5818320"/>
            <a:chExt cx="4326840" cy="579600"/>
          </a:xfrm>
        </p:grpSpPr>
        <p:sp>
          <p:nvSpPr>
            <p:cNvPr id="372" name="Text Box 8"/>
            <p:cNvSpPr/>
            <p:nvPr/>
          </p:nvSpPr>
          <p:spPr>
            <a:xfrm>
              <a:off x="2615400" y="5818320"/>
              <a:ext cx="117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879440" y="5818320"/>
              <a:ext cx="206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lfu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002_14l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04920" y="806400"/>
            <a:ext cx="80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 ions (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2362320" y="2362320"/>
            <a:ext cx="5408640" cy="522000"/>
            <a:chOff x="2362320" y="2362320"/>
            <a:chExt cx="5408640" cy="522000"/>
          </a:xfrm>
        </p:grpSpPr>
        <p:sp>
          <p:nvSpPr>
            <p:cNvPr id="379" name="Text Box 6"/>
            <p:cNvSpPr/>
            <p:nvPr/>
          </p:nvSpPr>
          <p:spPr>
            <a:xfrm>
              <a:off x="2362320" y="2363760"/>
              <a:ext cx="12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4648320" y="2362320"/>
              <a:ext cx="31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d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2364840" y="3044880"/>
            <a:ext cx="5733720" cy="522000"/>
            <a:chOff x="2364840" y="3044880"/>
            <a:chExt cx="5733720" cy="522000"/>
          </a:xfrm>
        </p:grpSpPr>
        <p:sp>
          <p:nvSpPr>
            <p:cNvPr id="382" name="Text Box 9"/>
            <p:cNvSpPr/>
            <p:nvPr/>
          </p:nvSpPr>
          <p:spPr>
            <a:xfrm>
              <a:off x="2364840" y="304632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4650480" y="304488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ass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375280" y="3728880"/>
            <a:ext cx="5188680" cy="579600"/>
            <a:chOff x="2375280" y="3728880"/>
            <a:chExt cx="5188680" cy="579600"/>
          </a:xfrm>
        </p:grpSpPr>
        <p:sp>
          <p:nvSpPr>
            <p:cNvPr id="385" name="Text Box 12"/>
            <p:cNvSpPr/>
            <p:nvPr/>
          </p:nvSpPr>
          <p:spPr>
            <a:xfrm>
              <a:off x="2375280" y="3728880"/>
              <a:ext cx="149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650840" y="3728880"/>
              <a:ext cx="291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r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6" descr="BD05176_"/>
          <p:cNvPicPr/>
          <p:nvPr/>
        </p:nvPicPr>
        <p:blipFill>
          <a:blip r:embed="rId1"/>
          <a:stretch/>
        </p:blipFill>
        <p:spPr>
          <a:xfrm>
            <a:off x="228600" y="4495680"/>
            <a:ext cx="2187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0002_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1522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4382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2388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954480" y="5029200"/>
            <a:ext cx="10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928440" y="5030640"/>
            <a:ext cx="3502800" cy="520560"/>
            <a:chOff x="928440" y="5030640"/>
            <a:chExt cx="3502800" cy="520560"/>
          </a:xfrm>
        </p:grpSpPr>
        <p:sp>
          <p:nvSpPr>
            <p:cNvPr id="67" name="Text Box 7"/>
            <p:cNvSpPr/>
            <p:nvPr/>
          </p:nvSpPr>
          <p:spPr>
            <a:xfrm>
              <a:off x="928440" y="5030640"/>
              <a:ext cx="88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16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3753720" y="503064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8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2589480" y="503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1"/>
          <p:cNvSpPr/>
          <p:nvPr/>
        </p:nvSpPr>
        <p:spPr>
          <a:xfrm>
            <a:off x="5105520" y="53211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2171880" y="5715000"/>
            <a:ext cx="4800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Conservation of Mas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0002_3l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895480" y="563868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J. Thomson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/charge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6 Nobel Prize in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f0002_5l"/>
          <p:cNvPicPr/>
          <p:nvPr/>
        </p:nvPicPr>
        <p:blipFill>
          <a:blip r:embed="rId1"/>
          <a:stretch/>
        </p:blipFill>
        <p:spPr>
          <a:xfrm>
            <a:off x="76320" y="3816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4920" y="4952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502920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= -1.6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’s charge/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 = 9.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59480" y="1676520"/>
            <a:ext cx="3522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23 Nobel Prize in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0002_6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568120" y="5964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ranium 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0002_7l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0002_8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7632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934320" y="5029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18920" y="526572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oms positive charge is concentrated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(p) has opposite (+) charge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p is 1840 x 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0160" y="4348080"/>
            <a:ext cx="39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velocity ~ 1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~5% speed of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22720" y="11415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8 Nobel Prize in Che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1:59:52Z</dcterms:created>
  <dc:creator>J. David Robertson</dc:creator>
  <dc:description/>
  <dc:language>en-US</dc:language>
  <cp:lastModifiedBy>RomaK</cp:lastModifiedBy>
  <dcterms:modified xsi:type="dcterms:W3CDTF">2015-09-01T16:17:33Z</dcterms:modified>
  <cp:revision>35</cp:revision>
  <dc:subject/>
  <dc:title>Atoms, Molecules and Ions</dc:title>
</cp:coreProperties>
</file>